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94A-9657-4F45-A1A3-CF243622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E6B-0350-483A-B9B1-E8F2B02F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5B3-442E-4CC6-AD0B-EFD9E385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EFE-0961-4B9B-82AA-1B19A1DC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157-91B5-403A-B934-5639FC33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398-538D-4DB9-B1D5-F6EE19E3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D3F-676D-4420-B5B2-252B6C8B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44B-AE01-439F-922E-FF2357C0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BAEC-289A-4613-A108-39EDA375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C4F-60BB-489E-BE39-EDD70709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CC0-DC71-4FF9-BCC3-75327704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DFA-72A4-467B-B967-2F254460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D9BF-FC7F-495B-B811-800917E2D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ZAZION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4753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16360" y="2781360"/>
            <a:ext cx="3384360" cy="1511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GLOBAL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716360" y="1699920"/>
            <a:ext cx="0" cy="10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3860640"/>
            <a:ext cx="144000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4292640"/>
            <a:ext cx="7164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476280"/>
            <a:ext cx="201600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765000"/>
            <a:ext cx="158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4360" y="404640"/>
            <a:ext cx="1800360" cy="10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zion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ultur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156360" y="2924280"/>
            <a:ext cx="144000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96360" y="2349360"/>
            <a:ext cx="1368360" cy="13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mer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96360" y="4292640"/>
            <a:ext cx="1368360" cy="11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5516640"/>
            <a:ext cx="136872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i di v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807600">
            <a:off x="15480" y="2134800"/>
            <a:ext cx="3133800" cy="1079640"/>
          </a:xfrm>
          <a:prstGeom prst="rightArrow">
            <a:avLst>
              <a:gd name="adj1" fmla="val 50000"/>
              <a:gd name="adj2" fmla="val 7256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dei traspor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0689800">
            <a:off x="250920" y="4149720"/>
            <a:ext cx="3025800" cy="1366920"/>
          </a:xfrm>
          <a:prstGeom prst="rightArrow">
            <a:avLst>
              <a:gd name="adj1" fmla="val 50000"/>
              <a:gd name="adj2" fmla="val 553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dei mez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omunica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47:12Z</dcterms:created>
  <dc:creator>studente</dc:creator>
  <dc:description/>
  <dc:language>en-US</dc:language>
  <cp:lastModifiedBy>studente</cp:lastModifiedBy>
  <dcterms:modified xsi:type="dcterms:W3CDTF">2017-01-09T09:30:51Z</dcterms:modified>
  <cp:revision>6</cp:revision>
  <dc:subject/>
  <dc:title>Diapositiva 1</dc:title>
</cp:coreProperties>
</file>